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1D96-8055-494F-BAF3-E6A988EF2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3C6E-B565-429F-8A0E-C84161045A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C526-307A-4287-AA1D-9D09E0D0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26D-4DA5-40A5-AE91-88254566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FBA6-BE4F-415B-A382-1DF060DE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4C1F-B8FA-40B9-B08B-4727C932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D737-5EC1-4C6B-BE52-4670B6BB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1E5B-3F94-4622-BD00-DF4DE1F5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DFC1-AA19-4E48-A789-46C3D799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17A9-2D3C-4518-BC57-4F79D693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475-68BE-40B2-91BB-C6DAE9E1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55D8-C397-4CD2-AA74-8857A0C9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4291-AA46-4619-AD76-01051987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60D5-65F5-4CB5-86D7-AB5E26ED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8F3E-87A7-4883-AC84-D4F687568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BlankWorldMap"/>
          <p:cNvPicPr/>
          <p:nvPr/>
        </p:nvPicPr>
        <p:blipFill>
          <a:blip r:embed="rId1"/>
          <a:stretch/>
        </p:blipFill>
        <p:spPr>
          <a:xfrm>
            <a:off x="0" y="1106640"/>
            <a:ext cx="9144000" cy="575136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304920" y="152280"/>
            <a:ext cx="845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arctic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th Americ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ric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nt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t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arc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2:32:12Z</dcterms:created>
  <dc:creator>Owner</dc:creator>
  <dc:description/>
  <dc:language>en-US</dc:language>
  <cp:lastModifiedBy>Erik Jones</cp:lastModifiedBy>
  <cp:lastPrinted>2010-09-17T11:08:15Z</cp:lastPrinted>
  <dcterms:modified xsi:type="dcterms:W3CDTF">2010-09-17T11:11:34Z</dcterms:modified>
  <cp:revision>4</cp:revision>
  <dc:subject/>
  <dc:title>Slide 1</dc:title>
</cp:coreProperties>
</file>